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53242"/>
        <c:axId val="12865045"/>
      </c:barChart>
      <c:catAx>
        <c:axId val="591532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65045"/>
        <c:crosses val="autoZero"/>
        <c:auto val="1"/>
        <c:lblAlgn val="ctr"/>
        <c:lblOffset val="100"/>
        <c:noMultiLvlLbl val="0"/>
      </c:catAx>
      <c:valAx>
        <c:axId val="128650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532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3850-4BDF-413C-A5ED-58211968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A75D-D5EB-43D0-AD9A-5B1FF1A9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BBEB-B093-4D90-9E50-97A629C3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B08F-FF8F-4CEF-96C2-3D328F0E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6264-4B0B-4B8C-A848-A7B0D948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055F-9288-4271-9A4E-60C4CF2A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E500-E9C5-4D51-8037-34C3D250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6253-8F53-4309-94FC-269261D4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68FE-765B-493A-8D1A-081B6DDA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4CD5-244E-410F-9EED-8F754E42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584D-ED7A-4D00-9F19-F407393F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BF26-48F7-491A-A0C0-2A506CB4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A6926-D89F-42D1-AC1A-24946BF178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