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99873"/>
        <c:axId val="975751"/>
      </c:barChart>
      <c:catAx>
        <c:axId val="34299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751"/>
        <c:crosses val="autoZero"/>
        <c:auto val="1"/>
        <c:lblAlgn val="ctr"/>
        <c:lblOffset val="100"/>
        <c:noMultiLvlLbl val="0"/>
      </c:catAx>
      <c:valAx>
        <c:axId val="975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99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CBF-71BB-42E2-9C91-D766D41E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AEC-E5FE-4626-AF31-AA788ED4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C61-4E84-427B-BB0E-53F04167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E2E-D42B-41AB-A4A5-FE590358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059-166E-4B72-8CF0-35FAAB7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B3E-4930-4546-926B-24A584BA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ACA-1FB3-4562-83DE-9B204D63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CA8-F068-47A2-9937-531DA37D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F1D-63F7-4A2C-B416-5C841D79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957-CE9D-4233-828C-499A057B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456-CBF3-4D77-B075-96F1E54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A48-8186-44C0-926B-35A0275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9CC32-26D0-496C-8879-1C318548B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