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98342"/>
        <c:axId val="1093575"/>
      </c:barChart>
      <c:catAx>
        <c:axId val="84698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575"/>
        <c:crosses val="autoZero"/>
        <c:auto val="1"/>
        <c:lblAlgn val="ctr"/>
        <c:lblOffset val="100"/>
        <c:noMultiLvlLbl val="0"/>
      </c:catAx>
      <c:valAx>
        <c:axId val="1093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98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26D-9A8B-4D06-BB28-7A140137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EAC-A711-4DBC-89E0-D2791D1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473-EA66-4DFC-A137-73BB2811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2F1-45AD-4D9D-8F83-FA6B735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D57-E921-4F3A-A3FE-4121998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C16-14D1-493D-BDD7-9E60FAD3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68D-B487-4644-B933-E74CBE5C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E15-7468-415D-9A10-002662E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5B2-51C4-4C43-85B4-0488FDE8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819-372D-4D80-A4A9-41828E87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035-B95D-4CEC-98E0-6695FD5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8F9-0B85-4DD2-A266-1BBF328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BD69-3DEC-4862-90AB-75387CCBB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