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098595"/>
        <c:axId val="51550572"/>
      </c:barChart>
      <c:catAx>
        <c:axId val="250985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50572"/>
        <c:crosses val="autoZero"/>
        <c:auto val="1"/>
        <c:lblAlgn val="ctr"/>
        <c:lblOffset val="100"/>
        <c:noMultiLvlLbl val="0"/>
      </c:catAx>
      <c:valAx>
        <c:axId val="51550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0985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49B0-44D6-4472-BE90-C0BC3E88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318F-1C2F-4016-B9C2-EBDE3B4F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3C20-2380-42DA-B15C-C8A1384B7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0282-4F26-4839-9B02-73ED010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392F-376A-4BD2-8F45-9D5939B2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F86C-FF6F-4A5B-9D97-474AA7B9E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9300-80FE-4C8E-AC54-793EBB244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AE59-1757-4540-B4F9-7D9637CF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CEC7-B767-4C77-93D7-17BF9BD6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5001-B5A5-4A7C-B26B-9D16436E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B326-E736-464F-B87E-756742C8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D055-85ED-4510-B28E-D825E33B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352536-8CCA-4240-BCB7-F938D1254FC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