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309725"/>
        <c:axId val="73828465"/>
      </c:barChart>
      <c:catAx>
        <c:axId val="853097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28465"/>
        <c:crosses val="autoZero"/>
        <c:auto val="1"/>
        <c:lblAlgn val="ctr"/>
        <c:lblOffset val="100"/>
        <c:noMultiLvlLbl val="0"/>
      </c:catAx>
      <c:valAx>
        <c:axId val="738284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3097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A005-E1F2-4067-9087-6B30B7BB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E7F8-F2E8-442E-9B39-5CB939C7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76E0-12CB-4050-902D-52FD8388C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6F80-8DEE-446D-B82C-510528AF7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3C7A-44CA-4B69-9003-FE64C299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C4DB-294F-4AD8-9366-E34FB465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6587-871E-4D8B-AC9B-63BF30C1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5F53-7233-4D5C-847F-E7BBE614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D47B-FAFC-4E49-BDD7-19D9FDF0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D1A4-A5A1-418B-B6E4-5C5B3113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96AD-8FB4-49B2-9EEF-7DCBD8DF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741B-0784-4D0F-8D51-6E828931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BF4EF-1CE6-45EE-B570-171D19CD39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