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02846"/>
        <c:axId val="51323177"/>
      </c:barChart>
      <c:catAx>
        <c:axId val="64102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23177"/>
        <c:crosses val="autoZero"/>
        <c:auto val="1"/>
        <c:lblAlgn val="ctr"/>
        <c:lblOffset val="100"/>
        <c:noMultiLvlLbl val="0"/>
      </c:catAx>
      <c:valAx>
        <c:axId val="51323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02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EFF-3E94-48C4-90CB-51F629FC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481-2DA9-42B5-B48F-2FCB50EB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491-1C2A-4BF2-82F1-E777E15B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A25-FC61-488E-9E6B-73170C90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79D-6B82-4D1B-90BF-6167B1C8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471-C609-4DB8-9F38-C95A6ECB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1E9-D97E-4393-8D41-8CC2154A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4D5-9AED-413C-A5E7-CBEA2CB9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9E1-B20E-4B85-93E6-808ADE10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47B-CDC1-46D0-988F-CE9BE639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615-C36E-4436-93BE-39831765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A5B-41A7-46AD-86A8-3D3D6A45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20026-5554-4D8F-8401-73E23839B1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