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510668"/>
        <c:axId val="71582012"/>
      </c:barChart>
      <c:catAx>
        <c:axId val="72510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582012"/>
        <c:crosses val="autoZero"/>
        <c:auto val="1"/>
        <c:lblAlgn val="ctr"/>
        <c:lblOffset val="100"/>
        <c:noMultiLvlLbl val="0"/>
      </c:catAx>
      <c:valAx>
        <c:axId val="71582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10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C9B5-E5E1-4BBB-AACC-B0FBF61ED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2B9-4B9C-4226-A3CA-E64B5012C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F659-B2B4-41DC-8FE5-5B869223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D804-1EF0-4C76-A4A9-53FD776B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C04-7137-40A1-870A-1993EF67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D60C-2AFC-412B-B5EC-055A34A8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B151-6F88-41D1-A8BE-97B8ADD4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1189-5FF7-4B90-8528-4DCD7A2A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25E0-8692-4A6D-908F-08FE2CCA2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1612-4425-47B4-836C-4577F495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FA8B-4222-448F-AA86-322D9EC6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FB5C-4E32-4622-A69F-D103E1EA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D2284F-6FCB-4597-8203-85EB719FB2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