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34136"/>
        <c:axId val="23193053"/>
      </c:barChart>
      <c:catAx>
        <c:axId val="76434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93053"/>
        <c:crosses val="autoZero"/>
        <c:auto val="1"/>
        <c:lblAlgn val="ctr"/>
        <c:lblOffset val="100"/>
        <c:noMultiLvlLbl val="0"/>
      </c:catAx>
      <c:valAx>
        <c:axId val="23193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34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F9A-BB4A-4CEA-AD83-1CA7AFD7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1AF-1C9C-41F9-AACB-B4E84EB3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05D-A740-441A-BFAB-660EB222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FF9-DD60-4151-97DA-2671441D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43A-BAA2-4535-B0EF-2E7E808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01E-2B5C-4331-B14D-034F11A5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AB2-1A12-4EB9-983C-7169B962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FC22-3D6F-4484-BB0B-3D76A2E3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A39-15AE-4BDB-915A-039BAD4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804-73B0-4125-9982-3E23DCA3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BB59-6C33-4009-8705-FD43804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91B-2481-4925-9F15-EE040EB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A0249-79FB-4C82-AE57-7C5C1CFC8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