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82520"/>
        <c:axId val="57798067"/>
      </c:barChart>
      <c:catAx>
        <c:axId val="98282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8067"/>
        <c:crosses val="autoZero"/>
        <c:auto val="1"/>
        <c:lblAlgn val="ctr"/>
        <c:lblOffset val="100"/>
        <c:noMultiLvlLbl val="0"/>
      </c:catAx>
      <c:valAx>
        <c:axId val="57798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82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6E8-DA33-4DC5-AF4C-D6E430FF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AD6-CD97-47D4-8FE4-D7317396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2C5-6198-4ACA-AE6A-903F3FCF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9FE-2F47-4405-A409-6179E1CB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2C4-1744-4497-B5A9-DEA39FC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36E-BFE2-4BE8-9770-FE2DAF96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8F0-DAEE-4361-B2F8-0BFB0537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EF-B8E9-46CC-9F62-BE7959C2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500-F365-403E-B9B4-BA98300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059-8E90-4D7B-9E8F-4E44836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895-79C9-4EE0-B5B7-6987839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2D6-7D0B-467C-B398-8589B4B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D089-3F91-4ED9-99A1-0AE5D415C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