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167822"/>
        <c:axId val="49594573"/>
      </c:barChart>
      <c:catAx>
        <c:axId val="98167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594573"/>
        <c:crosses val="autoZero"/>
        <c:auto val="1"/>
        <c:lblAlgn val="ctr"/>
        <c:lblOffset val="100"/>
        <c:noMultiLvlLbl val="0"/>
      </c:catAx>
      <c:valAx>
        <c:axId val="495945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167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F10A-1CA1-4876-8268-783DC506D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57EA-5CA1-4A6A-970E-43D892FC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8D34-81CA-4854-BE2C-FD9075F3F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725C-9B5B-4B44-9182-34A13CAF0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53AE-271F-4425-9ACA-F0D693473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EDD91-86A2-486C-8765-7CDD7CF2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CE07-8D57-4A70-A436-658BD9D63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8422-E2B9-4834-91FA-56BE7618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D6ED-CE7E-40C3-99CA-C51C63C4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0D8-1528-49C8-B2F4-FD006526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5C56-1780-43F9-9273-8B66BE6E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B6CF-92E9-40B8-839F-193CC0B7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BBE45C-0355-4BF6-9BF8-71F5013087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